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F3CD8-9715-4738-823C-C56BA95B8D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7DED1-6F31-4417-BBCE-0C4BA5685F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5A4B0-7DF5-45D9-908D-8BFEBBDFF7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F419D-F66F-441F-A243-B6B7D4FBE6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BA40A-F116-4F84-BA63-03F2BF7675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1E557-5D43-4CED-8AE6-1B3BD286AC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AF382-40F5-4728-AA48-9E1FF66FD8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B3995-3F83-4557-AF11-9CA4089FB1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D832E-0C74-4C96-B34D-8A7C2D8032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09513-0FAE-443C-90C5-74D18AAE71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F24F6-F183-4313-85D6-1A7CA5FDDF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81FDA-34C8-4E69-A7EA-A9D9B73EC1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images.google.com/imgres?imgurl=http://www.mas.ucy.ac.cy/NEWMAS/images/ucy_logo_clean.png&amp;imgrefurl=http://www.mas.ucy.ac.cy/NEWMAS/images/&amp;h=182&amp;w=185&amp;sz=41&amp;tbnid=zwk0cIvSOnVJ3M:&amp;tbnh=94&amp;tbnw=96&amp;hl=en&amp;start=20&amp;prev=/images%3Fq%3Ducy%2Blogo%26svnum%3D10%26hl%3Den%26lr%3D%26rls%3DGGLG,GGLG:2006-01,GGLG:en%26sa%3DN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229600" y="6477120"/>
            <a:ext cx="914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L8-</a:t>
            </a:r>
            <a:fld id="{1657D1D8-B35F-495B-B178-E5ABE3803996}" type="slidenum"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33520" y="914400"/>
            <a:ext cx="807696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fd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229600" y="304920"/>
            <a:ext cx="557280" cy="5461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5440" y="64771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ΠΛ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35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 – Δομές Δεδομένων και Αλγόριθμο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ια Ηλ. Μηχ. και Μηχ. Υπο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ercise 1 Solutio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新細明體"/>
              </a:rPr>
              <a:t>We will move along the elements of A. For each new element we will compare the element with the current element of B. If they match, we will traverse A and B until we find a new element in A and a new element in B accordingly. If the elements are the same w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eat the previous step until the end of the lists. Else we report that the lists do not have the same set of element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新細明體"/>
              </a:rPr>
              <a:t>The above algorithm is O(n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DDC20-C354-4009-9849-03BCB9D361A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ercise 2 Solutio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Examine linearly all the elements a of A. For each element a, perform a binary search in the elements of B looking for an element b such that b=m-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Ex2(m,A,B) {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Foreach 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b=binarysearch(m-a, B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if (found(b)) {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print (“%d + %d = %d”, a,b,m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return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print (“element was not found in b”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D588A-7CBA-45A4-8527-7542F78D50BD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6T09:10:03Z</dcterms:created>
  <dc:creator>annap</dc:creator>
  <dc:description/>
  <dc:language>en-US</dc:language>
  <cp:lastModifiedBy>DZ</cp:lastModifiedBy>
  <dcterms:modified xsi:type="dcterms:W3CDTF">2006-10-29T07:24:04Z</dcterms:modified>
  <cp:revision>347</cp:revision>
  <dc:subject/>
  <dc:title>l</dc:title>
</cp:coreProperties>
</file>